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242-CE57-40FE-A5C2-A1C229CC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816-9DC9-45E3-AE4C-284E8988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59E-1E88-413B-8749-1DE41E69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A19-AE6B-452D-B3A2-473FC8E8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7FC-CC7F-401D-A655-3B17C529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CDD-273E-4342-8FC3-FCB09532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84EE-6E51-4955-9267-4644C9B4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7FE-2B67-4752-B59F-2931E531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606-16BA-4682-9B17-44158469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BAB-B371-47D9-BB43-29270CB9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477-C258-40C1-AA62-B40E48B8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5DD-84AB-4BEB-A6F6-E5219EAB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9C16E-DD38-43F9-8C80-6C963D06F6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hyperlink" Target="mailto:Wine@Ethersoft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552600"/>
            <a:ext cx="71992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Open Source -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альна ли альтернатива коммерческому П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59600" y="6840360"/>
            <a:ext cx="28130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c0c0c0"/>
                </a:solidFill>
                <a:latin typeface="Arial"/>
              </a:rPr>
              <a:t>© Александр Башки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199280" y="4535640"/>
            <a:ext cx="2519280" cy="216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20720" y="2879640"/>
            <a:ext cx="25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нкт-Петербург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64000" y="1547640"/>
            <a:ext cx="3780000" cy="5400720"/>
          </a:xfrm>
          <a:custGeom>
            <a:avLst/>
            <a:gdLst>
              <a:gd name="textAreaLeft" fmla="*/ 184320 w 3780000"/>
              <a:gd name="textAreaRight" fmla="*/ 3595680 w 3780000"/>
              <a:gd name="textAreaTop" fmla="*/ 184320 h 5400720"/>
              <a:gd name="textAreaBottom" fmla="*/ 5216400 h 5400720"/>
            </a:gdLst>
            <a:ahLst/>
            <a:rect l="textAreaLeft" t="textAreaTop" r="textAreaRight" b="textAreaBottom"/>
            <a:pathLst>
              <a:path w="21600" h="30860">
                <a:moveTo>
                  <a:pt x="3600" y="0"/>
                </a:moveTo>
                <a:arcTo wR="3600" hR="3600" stAng="16200000" swAng="-5400000"/>
                <a:lnTo>
                  <a:pt x="0" y="27260"/>
                </a:lnTo>
                <a:arcTo wR="3600" hR="3600" stAng="10800000" swAng="-5400000"/>
                <a:lnTo>
                  <a:pt x="18000" y="30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cc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1547640"/>
            <a:ext cx="3780000" cy="5400720"/>
          </a:xfrm>
          <a:custGeom>
            <a:avLst/>
            <a:gdLst>
              <a:gd name="textAreaLeft" fmla="*/ 184320 w 3780000"/>
              <a:gd name="textAreaRight" fmla="*/ 3595680 w 3780000"/>
              <a:gd name="textAreaTop" fmla="*/ 184320 h 5400720"/>
              <a:gd name="textAreaBottom" fmla="*/ 5216400 h 5400720"/>
            </a:gdLst>
            <a:ahLst/>
            <a:rect l="textAreaLeft" t="textAreaTop" r="textAreaRight" b="textAreaBottom"/>
            <a:pathLst>
              <a:path w="21600" h="30860">
                <a:moveTo>
                  <a:pt x="3600" y="0"/>
                </a:moveTo>
                <a:arcTo wR="3600" hR="3600" stAng="16200000" swAng="-5400000"/>
                <a:lnTo>
                  <a:pt x="0" y="27260"/>
                </a:lnTo>
                <a:arcTo wR="3600" hR="3600" stAng="10800000" swAng="-5400000"/>
                <a:lnTo>
                  <a:pt x="18000" y="308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cc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0360" y="374760"/>
            <a:ext cx="88200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недренцы, реселлеры и разработчики. На чем они зарабатыва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2124000"/>
            <a:ext cx="2879640" cy="54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ч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4000" y="1763640"/>
            <a:ext cx="2879640" cy="54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04000" y="2484360"/>
            <a:ext cx="2879640" cy="54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нсиру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643280" y="1941480"/>
            <a:ext cx="1260720" cy="363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2484360"/>
            <a:ext cx="126072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28720" y="3600360"/>
            <a:ext cx="2879640" cy="54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елл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3527280"/>
            <a:ext cx="28800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а носителе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рибу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08360" y="3851280"/>
            <a:ext cx="1260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28720" y="4896000"/>
            <a:ext cx="2879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дрен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08360" y="5148360"/>
            <a:ext cx="1260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4896000"/>
            <a:ext cx="288000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д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5543640"/>
            <a:ext cx="288000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6191280"/>
            <a:ext cx="288000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аб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08360" y="5148360"/>
            <a:ext cx="126072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08360" y="5148360"/>
            <a:ext cx="1260720" cy="12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0360" y="374760"/>
            <a:ext cx="92883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еимущества использования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Open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63640" y="1619280"/>
            <a:ext cx="1728720" cy="2519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00360" y="1619280"/>
            <a:ext cx="5943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buSzPct val="10280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Отсутствие платы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280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Открытость исходного кода (И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2805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Возможность самостоятельной </a:t>
            </a:r>
            <a:br>
              <a:rPr sz="2800"/>
            </a:b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модификации исходного к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2805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Независимость от венд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2805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Возможность обратиться к </a:t>
            </a:r>
            <a:br>
              <a:rPr sz="2800"/>
            </a:b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сообществу для решения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0360" y="374760"/>
            <a:ext cx="66992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иски при использовании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Open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23720" y="1440000"/>
            <a:ext cx="2816280" cy="3419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76840" y="1619280"/>
            <a:ext cx="566244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Получение качечственной </a:t>
            </a:r>
            <a:br>
              <a:rPr sz="2800"/>
            </a:b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поддержки проду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Необходимость создания собственного «центра компетен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Спциали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Наличие на рын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Проф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0360" y="374760"/>
            <a:ext cx="7920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OpenSource — как снизить рис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440000"/>
            <a:ext cx="2700360" cy="216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635280" y="1192320"/>
            <a:ext cx="636588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Привлечь подряд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Заключить договор на поддерж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Оценить бюжет (минимум, </a:t>
            </a:r>
            <a:br>
              <a:rPr sz="2800"/>
            </a:b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средний, масимум) до внед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Рассмотреть максимум аналогов </a:t>
            </a:r>
            <a:br>
              <a:rPr sz="2800"/>
            </a:b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(коммерческих и OpenSou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До внедрения: оценить </a:t>
            </a:r>
            <a:br>
              <a:rPr sz="2800"/>
            </a:b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эксплуатационные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До внедрения: оценить перспетивы </a:t>
            </a:r>
            <a:br>
              <a:rPr sz="2800"/>
            </a:b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изменения бизнес-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0360" y="374760"/>
            <a:ext cx="77407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гда имеет смысл применять OpenSour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9640" y="1832040"/>
            <a:ext cx="2462400" cy="2595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9280" y="1327320"/>
            <a:ext cx="521964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6e6ff"/>
                </a:solidFill>
                <a:latin typeface="Arial"/>
              </a:rPr>
              <a:t>В серверных реше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6e6ff"/>
                </a:solidFill>
                <a:latin typeface="Arial"/>
                <a:ea typeface="Arial Unicode MS"/>
              </a:rPr>
              <a:t> </a:t>
            </a:r>
            <a:r>
              <a:rPr b="0" i="1" lang="ru-RU" sz="1800" spc="-1" strike="noStrike">
                <a:solidFill>
                  <a:srgbClr val="e6e6ff"/>
                </a:solidFill>
                <a:latin typeface="Arial"/>
                <a:ea typeface="Arial Unicode MS"/>
              </a:rPr>
              <a:t>стоимость Microsoft и Linux инженера практически одинакова, на рынке труда достаточно и тех, и других кандид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6e6ff"/>
                </a:solidFill>
                <a:latin typeface="Arial"/>
              </a:rPr>
              <a:t>Когда бюждет на внедрение и поддержку </a:t>
            </a:r>
            <a:br>
              <a:rPr sz="1800"/>
            </a:br>
            <a:r>
              <a:rPr b="1" lang="ru-RU" sz="1800" spc="-1" strike="noStrike">
                <a:solidFill>
                  <a:srgbClr val="e6e6ff"/>
                </a:solidFill>
                <a:latin typeface="Arial"/>
              </a:rPr>
              <a:t>OpenSource решения ниже, чем бюджет на закупку, поддержку и внедрение коммерческого ПО с аналогичной функциональ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6e6ff"/>
                </a:solidFill>
                <a:latin typeface="Arial"/>
                <a:ea typeface="Arial Unicode MS"/>
              </a:rPr>
              <a:t> </a:t>
            </a:r>
            <a:r>
              <a:rPr b="0" i="1" lang="ru-RU" sz="1800" spc="-1" strike="noStrike">
                <a:solidFill>
                  <a:srgbClr val="e6e6ff"/>
                </a:solidFill>
                <a:latin typeface="Arial"/>
                <a:ea typeface="Arial Unicode MS"/>
              </a:rPr>
              <a:t>Рабочие места операторов под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6e6ff"/>
                </a:solidFill>
                <a:latin typeface="Arial"/>
              </a:rPr>
              <a:t>Когда OpenSource ПО предоставляет какие-либо функции, не имеющиеся в коммерческих паке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6e6ff"/>
                </a:solidFill>
                <a:latin typeface="Arial"/>
              </a:rPr>
              <a:t>Когда OpenSource ПО дублирует функциональтность коммерческого ПО в необходимом объеме, и не требует специальных знаний для инсталляции и сопров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e6e6ff"/>
                </a:solidFill>
                <a:latin typeface="Arial"/>
                <a:ea typeface="Arial Unicode MS"/>
              </a:rPr>
              <a:t> </a:t>
            </a:r>
            <a:r>
              <a:rPr b="0" i="1" lang="ru-RU" sz="1800" spc="-1" strike="noStrike">
                <a:solidFill>
                  <a:srgbClr val="e6e6ff"/>
                </a:solidFill>
                <a:latin typeface="Arial"/>
                <a:ea typeface="Arial Unicode MS"/>
              </a:rPr>
              <a:t>OpenOfi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e6e6ff"/>
                </a:solidFill>
                <a:latin typeface="Arial"/>
                <a:ea typeface="Arial Unicode MS"/>
              </a:rPr>
              <a:t> </a:t>
            </a:r>
            <a:r>
              <a:rPr b="0" i="1" lang="ru-RU" sz="1800" spc="-1" strike="noStrike">
                <a:solidFill>
                  <a:srgbClr val="e6e6ff"/>
                </a:solidFill>
                <a:latin typeface="Arial"/>
                <a:ea typeface="Arial Unicode MS"/>
              </a:rPr>
              <a:t>InfraRec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9800" y="333360"/>
            <a:ext cx="96091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11600" y="1044720"/>
            <a:ext cx="62704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Рабочие станции под Linux (Linux,</a:t>
            </a:r>
            <a:br>
              <a:rPr sz="2800"/>
            </a:b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OpenOff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Мониторинг сети (Nag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Хостинговая площадка (Linux, </a:t>
            </a:r>
            <a:br>
              <a:rPr sz="2800"/>
            </a:b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apache, postres, mysq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Утилиты (InfraRecor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Экономя на лицензиях (OpenOff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Интернет-кафе (Linux, Firefox, </a:t>
            </a:r>
            <a:br>
              <a:rPr sz="2800"/>
            </a:b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OpenOff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539640" y="1100160"/>
            <a:ext cx="251964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554040"/>
            <a:ext cx="8856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6e6ff"/>
                </a:solidFill>
                <a:latin typeface="Arial"/>
              </a:rPr>
              <a:t>Последний пример: эта презентация </a:t>
            </a:r>
            <a:br>
              <a:rPr sz="3200"/>
            </a:br>
            <a:r>
              <a:rPr b="1" lang="ru-RU" sz="3200" spc="-1" strike="noStrike">
                <a:solidFill>
                  <a:srgbClr val="e6e6ff"/>
                </a:solidFill>
                <a:latin typeface="Arial"/>
              </a:rPr>
              <a:t>подготовлена с использ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68360" y="1754280"/>
            <a:ext cx="456408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Linux Russian Fedora 1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OpenOffice 3 Im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Lnk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"/>
              </a:rPr>
              <a:t>Open ClipAr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54160" y="1800360"/>
            <a:ext cx="285840" cy="388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154160" y="2340000"/>
            <a:ext cx="285840" cy="388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154160" y="2959200"/>
            <a:ext cx="285840" cy="38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020000" y="4319640"/>
            <a:ext cx="2614680" cy="2832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79520" y="6480000"/>
            <a:ext cx="4922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6e6ff"/>
                </a:solidFill>
                <a:latin typeface="Arial"/>
              </a:rPr>
              <a:t>При подготовке презентации не пострадало </a:t>
            </a:r>
            <a:br>
              <a:rPr sz="1800"/>
            </a:br>
            <a:r>
              <a:rPr b="0" lang="ru-RU" sz="1800" spc="-1" strike="noStrike">
                <a:solidFill>
                  <a:srgbClr val="e6e6ff"/>
                </a:solidFill>
                <a:latin typeface="Arial"/>
              </a:rPr>
              <a:t>ни одно авторское право 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154160" y="3570120"/>
            <a:ext cx="285840" cy="3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54040"/>
            <a:ext cx="885636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3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Вопрос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60720" y="1089000"/>
            <a:ext cx="3419280" cy="53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20720" y="554040"/>
            <a:ext cx="66992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рмины и опре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9640" y="1260360"/>
            <a:ext cx="648036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OpenSourc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свободно распространяемое с открытым исходным кодом, которое по условиям лицензии можно использовать для различных целей, в том числе — коммерческих. Как правило, распространяется под одной из «публичных» лицензий (GPL, BSD,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Freewar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свободно распространяемое программное обеспечение, как правило — с закрытым исходным кодом и, как правило, имеющее ряд ограничений по использованию (напрмер, ограничение на коммерческое использование), размещенных в лицензионном соглаш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Fre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свободно распространяемое ПО, авторы которого отказались от всяких прав на него, переведя его в разряд общественного д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опиетарно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ПО, как правило, с закрытм исходным одом, требюующее обязательной платы за использование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440000"/>
            <a:ext cx="197964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54040"/>
            <a:ext cx="66992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определ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2160720"/>
            <a:ext cx="792000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лее под термином OpenSource будем понимать свободно распространяеое ПО, за использование которого не требуется оплата и которое распространяется под «свободными» лицензиями (GPL, BSD, Free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91240" y="5005440"/>
            <a:ext cx="204804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0360" y="372960"/>
            <a:ext cx="84596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Open Source — примеры при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079640"/>
            <a:ext cx="395928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560" bIns="45000" anchor="t">
            <a:noAutofit/>
          </a:bodyPr>
          <a:p>
            <a:pPr marL="304920" indent="-8892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Linux (KDE, Gnome,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FreeB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Free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фисные 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Open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Abi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Thrunde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Fire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Утил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buSzPct val="100000"/>
              <a:buBlip>
                <a:blip r:embed="rId10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Pigin, lICQ, 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buSzPct val="100000"/>
              <a:buBlip>
                <a:blip r:embed="rId1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K3b, InfraRec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buClr>
                <a:srgbClr val="000000"/>
              </a:buClr>
              <a:buSzPct val="58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Krusader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buSzPct val="100000"/>
              <a:buBlip>
                <a:blip r:embed="rId1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ерверные 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Множество серверных реш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8892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7199280" y="5040360"/>
            <a:ext cx="2094120" cy="187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11360" y="1079640"/>
            <a:ext cx="3608640" cy="62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2560" bIns="45000" anchor="t">
            <a:noAutofit/>
          </a:bodyPr>
          <a:p>
            <a:pPr marL="21600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Бизнес-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1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 Narrow"/>
              </a:rPr>
              <a:t>OpenSource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1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Nexus small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1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ADemp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1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Millennium B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1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OpenBr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1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20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 Narrow"/>
              </a:rPr>
              <a:t>OpenSource Help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2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O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2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LanBilling OpenSource Help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2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OneZero Help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2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2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 Narrow"/>
              </a:rPr>
              <a:t>OpenSource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2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Open Source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2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Eclipse BI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2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Penta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Clr>
                <a:srgbClr val="000000"/>
              </a:buClr>
              <a:buSzPct val="58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2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 Narrow"/>
              </a:rPr>
              <a:t>OpenSource WEB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30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3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Портальные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buSzPct val="100000"/>
              <a:buBlip>
                <a:blip r:embed="rId3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446040"/>
            <a:ext cx="594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Open Source —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новные напра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20000" y="217980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абочих стан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0" y="5419800"/>
            <a:ext cx="3780000" cy="90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автоматизации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1280" y="4699080"/>
            <a:ext cx="755640" cy="720720"/>
          </a:xfrm>
          <a:prstGeom prst="downArrow">
            <a:avLst>
              <a:gd name="adj1" fmla="val 52028"/>
              <a:gd name="adj2" fmla="val 2424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4820000">
            <a:off x="6167160" y="2585880"/>
            <a:ext cx="540000" cy="1244520"/>
          </a:xfrm>
          <a:prstGeom prst="downArrow">
            <a:avLst>
              <a:gd name="adj1" fmla="val 50000"/>
              <a:gd name="adj2" fmla="val 5761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rot="6780000">
            <a:off x="3549240" y="2585880"/>
            <a:ext cx="540000" cy="1244520"/>
          </a:xfrm>
          <a:prstGeom prst="downArrow">
            <a:avLst>
              <a:gd name="adj1" fmla="val 50000"/>
              <a:gd name="adj2" fmla="val 5761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0360" y="3295800"/>
            <a:ext cx="1979280" cy="14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 Source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0720" y="37800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аиваем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3060720"/>
            <a:ext cx="539640" cy="720720"/>
          </a:xfrm>
          <a:prstGeom prst="downArrow">
            <a:avLst>
              <a:gd name="adj1" fmla="val 50000"/>
              <a:gd name="adj2" fmla="val 3338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0720" y="21798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ерв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3510000"/>
            <a:ext cx="521964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ff"/>
                </a:solidFill>
                <a:latin typeface="Arial"/>
              </a:rPr>
              <a:t>Linux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Open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Fire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Thrunderbird/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Java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ff"/>
                </a:solidFill>
                <a:latin typeface="Arial"/>
              </a:rPr>
              <a:t>Wine &amp; Windows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MS Office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  <a:ea typeface="Arial"/>
              </a:rPr>
              <a:t>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  <a:ea typeface="Arial"/>
              </a:rPr>
              <a:t>Internet Expl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Wine@Ethersoft</a:t>
            </a:r>
            <a:r>
              <a:rPr b="1" lang="ru-RU" sz="2000" spc="-1" strike="noStrike">
                <a:solidFill>
                  <a:srgbClr val="e6e6ff"/>
                </a:solidFill>
                <a:latin typeface="Arial"/>
              </a:rPr>
              <a:t>, CrossOver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6e6ff"/>
                </a:solidFill>
                <a:latin typeface="Arial"/>
              </a:rPr>
              <a:t>отдельные Windows application, не работающие «из коробки» с основной версией Wine (1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446040"/>
            <a:ext cx="594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Open Source решения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рабочих стан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703440" y="1692360"/>
            <a:ext cx="2176200" cy="2340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464000" y="1584360"/>
            <a:ext cx="4489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d320"/>
                </a:solidFill>
                <a:uFillTx/>
                <a:latin typeface="Arial"/>
              </a:rPr>
              <a:t>Альтернатиная 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d320"/>
                </a:solidFill>
                <a:uFillTx/>
                <a:latin typeface="Arial"/>
              </a:rPr>
              <a:t>для рабочих станций -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90920" y="2460600"/>
            <a:ext cx="46101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d320"/>
                </a:solidFill>
                <a:latin typeface="Arial"/>
              </a:rPr>
              <a:t>Типичная роль рабочей станции с Linux -</a:t>
            </a:r>
            <a:br>
              <a:rPr sz="1800"/>
            </a:br>
            <a:r>
              <a:rPr b="0" i="1" lang="ru-RU" sz="1800" spc="-1" strike="noStrike">
                <a:solidFill>
                  <a:srgbClr val="ffd320"/>
                </a:solidFill>
                <a:latin typeface="Arial"/>
              </a:rPr>
              <a:t> «простой ПК», «операторский ПК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d320"/>
                </a:solidFill>
                <a:latin typeface="Arial"/>
              </a:rPr>
              <a:t>«секретарский П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3384720"/>
            <a:ext cx="5219640" cy="1440"/>
          </a:xfrm>
          <a:prstGeom prst="line">
            <a:avLst/>
          </a:prstGeom>
          <a:ln w="9360">
            <a:solidFill>
              <a:srgbClr val="ffd3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9280" y="2268360"/>
            <a:ext cx="521964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e6ff"/>
                </a:solidFill>
                <a:latin typeface="Arial"/>
              </a:rPr>
              <a:t>Windows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Open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Fire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Thrunderbird/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Java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46040"/>
            <a:ext cx="594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Open Source решения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рабочих стан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64000" y="1692360"/>
            <a:ext cx="41515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d320"/>
                </a:solidFill>
                <a:uFillTx/>
                <a:latin typeface="Arial"/>
              </a:rPr>
              <a:t>Open Source для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0000" y="4179960"/>
            <a:ext cx="61642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cccc"/>
                </a:solidFill>
                <a:latin typeface="Arial"/>
              </a:rPr>
              <a:t>Большинство «серьезных» OpenSource Linux-приложений </a:t>
            </a:r>
            <a:br>
              <a:rPr sz="1600"/>
            </a:br>
            <a:r>
              <a:rPr b="1" lang="ru-RU" sz="1600" spc="-1" strike="noStrike">
                <a:solidFill>
                  <a:srgbClr val="cccccc"/>
                </a:solidFill>
                <a:latin typeface="Arial"/>
              </a:rPr>
              <a:t>портированы под Windows и наобор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576360" y="1587600"/>
            <a:ext cx="2700360" cy="2589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9280" y="4140360"/>
            <a:ext cx="5759280" cy="1440"/>
          </a:xfrm>
          <a:prstGeom prst="line">
            <a:avLst/>
          </a:prstGeom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9280" y="4859280"/>
            <a:ext cx="5759280" cy="1800"/>
          </a:xfrm>
          <a:prstGeom prst="line">
            <a:avLst/>
          </a:prstGeom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90920" y="5040360"/>
            <a:ext cx="49690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d320"/>
                </a:solidFill>
                <a:latin typeface="Arial"/>
              </a:rPr>
              <a:t>Набор OpenSource решений на Windo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d320"/>
                </a:solidFill>
                <a:latin typeface="Arial"/>
              </a:rPr>
              <a:t>позволяет использовать ее в той же ро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d320"/>
                </a:solidFill>
                <a:latin typeface="Arial"/>
              </a:rPr>
              <a:t>что и рабочей станции с Linux -</a:t>
            </a:r>
            <a:br>
              <a:rPr sz="1800"/>
            </a:br>
            <a:r>
              <a:rPr b="0" i="1" lang="ru-RU" sz="1800" spc="-1" strike="noStrike">
                <a:solidFill>
                  <a:srgbClr val="ffd320"/>
                </a:solidFill>
                <a:latin typeface="Arial"/>
              </a:rPr>
              <a:t> «простой ПК», «операторский ПК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d320"/>
                </a:solidFill>
                <a:latin typeface="Arial"/>
              </a:rPr>
              <a:t>«секретарский П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446040"/>
            <a:ext cx="594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Open Source решения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серв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60240" y="1619280"/>
            <a:ext cx="2760840" cy="2519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9280" y="1619280"/>
            <a:ext cx="52196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Web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FTP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Mail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Proxy Swerv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Backup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Database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10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Network Services (DNS, route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buSzPct val="100000"/>
              <a:buBlip>
                <a:blip r:embed="rId1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9280" y="4757760"/>
            <a:ext cx="5759280" cy="1440"/>
          </a:xfrm>
          <a:prstGeom prst="line">
            <a:avLst/>
          </a:prstGeom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90920" y="4937040"/>
            <a:ext cx="53294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d320"/>
                </a:solidFill>
                <a:latin typeface="Arial"/>
              </a:rPr>
              <a:t>Традиционно OpenSource ре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d320"/>
                </a:solidFill>
                <a:latin typeface="Arial"/>
              </a:rPr>
              <a:t>успешно используются в серве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d320"/>
                </a:solidFill>
                <a:latin typeface="Arial"/>
              </a:rPr>
              <a:t>для решения специфических серврены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179280"/>
            <a:ext cx="9720360" cy="7201080"/>
          </a:xfrm>
          <a:custGeom>
            <a:avLst/>
            <a:gdLst/>
            <a:ahLst/>
            <a:rect l="l" t="t" r="r" b="b"/>
            <a:pathLst>
              <a:path w="27001" h="20001">
                <a:moveTo>
                  <a:pt x="21500" y="500"/>
                </a:moveTo>
                <a:cubicBezTo>
                  <a:pt x="23333" y="500"/>
                  <a:pt x="25167" y="500"/>
                  <a:pt x="27000" y="500"/>
                </a:cubicBezTo>
                <a:cubicBezTo>
                  <a:pt x="25167" y="500"/>
                  <a:pt x="23333" y="500"/>
                  <a:pt x="21500" y="500"/>
                </a:cubicBezTo>
                <a:close/>
                <a:moveTo>
                  <a:pt x="26500" y="0"/>
                </a:moveTo>
                <a:cubicBezTo>
                  <a:pt x="26500" y="1333"/>
                  <a:pt x="26500" y="2667"/>
                  <a:pt x="26500" y="4000"/>
                </a:cubicBezTo>
                <a:cubicBezTo>
                  <a:pt x="26500" y="2667"/>
                  <a:pt x="26500" y="1333"/>
                  <a:pt x="26500" y="0"/>
                </a:cubicBezTo>
                <a:close/>
                <a:moveTo>
                  <a:pt x="0" y="19500"/>
                </a:moveTo>
                <a:cubicBezTo>
                  <a:pt x="1833" y="19500"/>
                  <a:pt x="3667" y="19500"/>
                  <a:pt x="5500" y="19500"/>
                </a:cubicBezTo>
                <a:cubicBezTo>
                  <a:pt x="3667" y="19500"/>
                  <a:pt x="1833" y="19500"/>
                  <a:pt x="0" y="19500"/>
                </a:cubicBezTo>
                <a:close/>
                <a:moveTo>
                  <a:pt x="500" y="16000"/>
                </a:moveTo>
                <a:cubicBezTo>
                  <a:pt x="500" y="17333"/>
                  <a:pt x="500" y="18667"/>
                  <a:pt x="500" y="20000"/>
                </a:cubicBezTo>
                <a:cubicBezTo>
                  <a:pt x="500" y="18667"/>
                  <a:pt x="500" y="17333"/>
                  <a:pt x="500" y="160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e6e6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46040"/>
            <a:ext cx="594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Open Source решения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23880" y="1800360"/>
            <a:ext cx="2975040" cy="2306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74960" y="3139920"/>
            <a:ext cx="1265040" cy="1000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40360" y="1619280"/>
            <a:ext cx="383832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>
              <a:lnSpc>
                <a:spcPct val="97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 Narrow"/>
              </a:rPr>
              <a:t>OpenSource 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145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 Narrow"/>
              </a:rPr>
              <a:t>OpenSource Help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145000"/>
              </a:lnSpc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 Narrow"/>
              </a:rPr>
              <a:t>OpenSource 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145000"/>
              </a:lnSpc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 Narrow"/>
              </a:rPr>
              <a:t>OpenSource WEB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145000"/>
              </a:lnSpc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e6e6ff"/>
                </a:solidFill>
                <a:latin typeface="Arial Narro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9280" y="4757760"/>
            <a:ext cx="5759280" cy="1440"/>
          </a:xfrm>
          <a:prstGeom prst="line">
            <a:avLst/>
          </a:prstGeom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0920" y="4937040"/>
            <a:ext cx="53294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d320"/>
                </a:solidFill>
                <a:latin typeface="Arial"/>
              </a:rPr>
              <a:t>В настоящее время среди всего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d320"/>
                </a:solidFill>
                <a:latin typeface="Arial"/>
              </a:rPr>
              <a:t>OpenSource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d320"/>
                </a:solidFill>
                <a:latin typeface="Arial"/>
              </a:rPr>
              <a:t>для автоматизации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d320"/>
                </a:solidFill>
                <a:latin typeface="Arial"/>
              </a:rPr>
              <a:t>активно используют системы класса help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7:46:53Z</dcterms:created>
  <dc:creator>Alexander Bashkirov</dc:creator>
  <dc:description/>
  <dc:language>en-US</dc:language>
  <cp:lastModifiedBy>Alex</cp:lastModifiedBy>
  <dcterms:modified xsi:type="dcterms:W3CDTF">2009-04-15T08:00:45Z</dcterms:modified>
  <cp:revision>47</cp:revision>
  <dc:subject/>
  <dc:title>Слайд 1</dc:title>
</cp:coreProperties>
</file>